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108-5A1B-416A-8205-EC6EE168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421-3363-4315-AFE1-8EECA2B4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E04-60D0-47AD-A7AE-E7E1EA8F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376-8855-4AAC-9B14-5460D500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BA17-485C-4830-A3F7-FD17A771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037D-6B91-42B6-B718-CAB232D7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08E3-B100-418F-9DB8-B910E0F7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B5D-7767-4BC0-8EB6-03D346C1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153E-1D01-4163-ABF4-C5CF7AF1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14D4-CD01-42C2-870C-0D37EBF1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9A96-CAE9-4690-AB79-8496D79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619-25B6-4DDF-95ED-11617CF6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4EE2-1EBB-47D1-AA32-889B17D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C9A5-CFE6-4A4A-AD0A-21B99C4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58EC-79C9-4CBB-802E-FF351325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ADFF-3AAA-464E-8FB9-B5EAED0D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C101-1355-487B-9A48-7C90AF7F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620-53D1-427F-A8AE-AABE256A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736-8B5E-413D-AF5D-D5FA30E6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B78-BCA6-43B6-986F-DD704857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41F-EBC7-4F56-8424-27A1F331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E42-F93B-4045-9925-8ACE6BA7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C8F-DDE9-4AF7-A9BB-DBE6F86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262-94F9-4D20-8B6F-AED12E0D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4412-6D5C-417C-A1E0-FD7E59E5BC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95F6-DDC7-4D3F-8719-17C9F048DD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unsci.com/fun3_en/protists/exhibitio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m.cfsan.fda.gov/~mow/intro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main Eukaryo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dom Prot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80920" y="380880"/>
            <a:ext cx="2514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Amoeb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oeboid movement – use of psuedop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d, water, can be parasi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-2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r, transpa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16873" t="30004" r="0" b="0"/>
          <a:stretch/>
        </p:blipFill>
        <p:spPr>
          <a:xfrm>
            <a:off x="5715000" y="175248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 rot="5400000">
            <a:off x="6792120" y="2962800"/>
            <a:ext cx="403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keweenawalgae.mtu.edu/PROTOZOAN_IMAGES/rhizopoda/Ameoba_s25_swedetownplant2_402.jp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KINGSTON:Mountain Brook:protists:Lauren's Powerpoint Videos:video5.avi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4550760" y="6400800"/>
            <a:ext cx="30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7pR7TNzJ_p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000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5320" y="380880"/>
            <a:ext cx="2133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Volvox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lorophy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nds ditches, shallow pudd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 to 1.5 mm in dia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9" descr="volvox2"/>
          <p:cNvPicPr/>
          <p:nvPr/>
        </p:nvPicPr>
        <p:blipFill>
          <a:blip r:embed="rId1"/>
          <a:stretch/>
        </p:blipFill>
        <p:spPr>
          <a:xfrm>
            <a:off x="4910040" y="1986120"/>
            <a:ext cx="3700440" cy="4101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4648320" y="62485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nbf.ca/vip/photos/volvox2.jp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a protist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“misfit” 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eukaryotic cell(s), single celled or multi-cell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-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-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gus-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ur protist la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be examining some animal- like and plant-like prot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amoeba_pseudopod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33720"/>
            <a:ext cx="6253200" cy="4573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1447920" y="640080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daviddarling.info/images/amoeba_pseudopodia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066680" y="3808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mo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cilia, flagella or pseudopod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Giardia lamb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aminated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ctose intolerance and diarrh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ryptosporidium parv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imal fe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e diarrhea, vomi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rypanosoma bruce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setse fly v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ver, anemia, organ disorders, neurological deterio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amount of debris in fresh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arameci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gae  lik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pirogy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biotic relationship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color and carbon source for c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ming lichens which creates s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219320" y="106668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Harm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2000" y="3049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486400" y="10666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Benefi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209680" y="21276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Protists can be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657600" y="6324480"/>
            <a:ext cx="213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The Bad Bug Bo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520" y="380880"/>
            <a:ext cx="3504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Arial Unicode MS"/>
              </a:rPr>
              <a:t>Blepharis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800600" y="4114800"/>
            <a:ext cx="403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protist.i.hosei.ac.jp/PDB/Images/Ciliophora/Blepharisma/americanum/americanum.jp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americanum"/>
          <p:cNvPicPr/>
          <p:nvPr/>
        </p:nvPicPr>
        <p:blipFill>
          <a:blip r:embed="rId1"/>
          <a:stretch/>
        </p:blipFill>
        <p:spPr>
          <a:xfrm>
            <a:off x="4800600" y="1828800"/>
            <a:ext cx="369576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0-30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se colo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0" descr="Blepharisma"/>
          <p:cNvPicPr/>
          <p:nvPr/>
        </p:nvPicPr>
        <p:blipFill>
          <a:blip r:embed="rId2"/>
          <a:stretch/>
        </p:blipFill>
        <p:spPr>
          <a:xfrm>
            <a:off x="7020000" y="1219320"/>
            <a:ext cx="2124000" cy="1181160"/>
          </a:xfrm>
          <a:prstGeom prst="rect">
            <a:avLst/>
          </a:prstGeom>
          <a:ln w="0">
            <a:noFill/>
          </a:ln>
        </p:spPr>
      </p:pic>
      <p:pic>
        <p:nvPicPr>
          <p:cNvPr id="130" name="KINGSTON:Mountain Brook:protists:Lauren's Powerpoint Videos:video1.avi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3708360" cy="24541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417960" y="6324480"/>
            <a:ext cx="30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AgXrjzKhh9k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366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Parameci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10" descr="parameciumdrop9_300"/>
          <p:cNvPicPr/>
          <p:nvPr/>
        </p:nvPicPr>
        <p:blipFill>
          <a:blip r:embed="rId1"/>
          <a:srcRect l="0" t="15422" r="6400" b="0"/>
          <a:stretch/>
        </p:blipFill>
        <p:spPr>
          <a:xfrm>
            <a:off x="990720" y="4343400"/>
            <a:ext cx="2465280" cy="1849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914400" y="617220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101science.com/paramecium.ht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2" descr="parameciumcartoon"/>
          <p:cNvPicPr/>
          <p:nvPr/>
        </p:nvPicPr>
        <p:blipFill>
          <a:blip r:embed="rId2"/>
          <a:stretch/>
        </p:blipFill>
        <p:spPr>
          <a:xfrm>
            <a:off x="1219320" y="1600200"/>
            <a:ext cx="22287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 rot="16200000">
            <a:off x="-410040" y="269640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img.sparknotes.com/figures/0/0a2e2068b60c8b7f8cfbe21c26e87498/paramecium.gif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2520" y="167652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water enviro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-35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KINGSTON:Mountain Brook:protists:Lauren's Powerpoint Videos:video2.avi" descr=""/>
          <p:cNvPicPr/>
          <p:nvPr/>
        </p:nvPicPr>
        <p:blipFill>
          <a:blip r:embed="rId3"/>
          <a:stretch/>
        </p:blipFill>
        <p:spPr>
          <a:xfrm>
            <a:off x="5308560" y="3981600"/>
            <a:ext cx="3835440" cy="28764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5293080" y="6611760"/>
            <a:ext cx="305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ocv67Px49A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466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0" y="380880"/>
            <a:ext cx="4572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Stentor coerule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12" descr="stentor2"/>
          <p:cNvPicPr/>
          <p:nvPr/>
        </p:nvPicPr>
        <p:blipFill>
          <a:blip r:embed="rId1"/>
          <a:stretch/>
        </p:blipFill>
        <p:spPr>
          <a:xfrm>
            <a:off x="5181480" y="1676520"/>
            <a:ext cx="3656160" cy="365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stentor"/>
          <p:cNvPicPr/>
          <p:nvPr/>
        </p:nvPicPr>
        <p:blipFill>
          <a:blip r:embed="rId2"/>
          <a:srcRect l="5625" t="0" r="7500" b="0"/>
          <a:stretch/>
        </p:blipFill>
        <p:spPr>
          <a:xfrm>
            <a:off x="4572000" y="3809880"/>
            <a:ext cx="1827360" cy="23814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3"/>
          <p:cNvSpPr/>
          <p:nvPr/>
        </p:nvSpPr>
        <p:spPr>
          <a:xfrm rot="5400000">
            <a:off x="6613200" y="374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pocketscope.com/Images/Gallery/stentor.jp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li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shwater lakes and st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0-200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mpet shaped blue to blue-g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KINGSTON:Mountain Brook:protists:Lauren's Powerpoint Videos:video4.avi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3530520" cy="2648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781920" y="6400800"/>
            <a:ext cx="310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rqD3m9hHhl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euglena1"/>
          <p:cNvPicPr/>
          <p:nvPr/>
        </p:nvPicPr>
        <p:blipFill>
          <a:blip r:embed="rId1"/>
          <a:srcRect l="4688" t="4219" r="4688" b="4219"/>
          <a:stretch/>
        </p:blipFill>
        <p:spPr>
          <a:xfrm>
            <a:off x="2819520" y="2514600"/>
            <a:ext cx="203508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Euglen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6" descr="euglena"/>
          <p:cNvPicPr/>
          <p:nvPr/>
        </p:nvPicPr>
        <p:blipFill>
          <a:blip r:embed="rId2"/>
          <a:srcRect l="6452" t="7093" r="0" b="0"/>
          <a:stretch/>
        </p:blipFill>
        <p:spPr>
          <a:xfrm>
            <a:off x="533520" y="1447920"/>
            <a:ext cx="253044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57440" y="213372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glen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trient rich fresh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-30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 rot="5400000">
            <a:off x="-1197360" y="3100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nfovisual.info/02/001_en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838080" y="6172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KINGSTON:Mountain Brook:protists:Lauren's Powerpoint Videos:video3.avi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>
            <a:off x="500760" y="6400800"/>
            <a:ext cx="305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JNwh67CPh-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0273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1:33:20Z</dcterms:created>
  <dc:creator>Lauren Fay</dc:creator>
  <dc:description/>
  <dc:language>en-US</dc:language>
  <cp:lastModifiedBy>Scott Holmes</cp:lastModifiedBy>
  <dcterms:modified xsi:type="dcterms:W3CDTF">2010-02-18T01:51:52Z</dcterms:modified>
  <cp:revision>19</cp:revision>
  <dc:subject/>
  <dc:title>Slide 1</dc:title>
</cp:coreProperties>
</file>